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13465678"/>
        <c:axId val="21318252"/>
      </c:barChart>
      <c:catAx>
        <c:axId val="134656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8252"/>
        <c:crossesAt val="0"/>
        <c:auto val="1"/>
        <c:lblAlgn val="ctr"/>
        <c:lblOffset val="100"/>
        <c:noMultiLvlLbl val="0"/>
      </c:catAx>
      <c:valAx>
        <c:axId val="21318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56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9F7D-9679-4769-8704-1EDB173B3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D8A-CE45-4789-8AD9-DADB7D2A1CA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58:25Z</dcterms:modified>
  <cp:revision>116</cp:revision>
  <dc:subject/>
  <dc:title>CSE 142 Python Slides</dc:title>
</cp:coreProperties>
</file>