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509E-8275-4C83-BED4-8A2D3AA8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37BA-3C63-459A-AD11-0FF52F869D5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1:39Z</dcterms:modified>
  <cp:revision>119</cp:revision>
  <dc:subject/>
  <dc:title>CSE 142 Python Slides</dc:title>
</cp:coreProperties>
</file>