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36A5-C4E7-462C-A11F-E609F3D5E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This program computes two people's body mass index (BMI)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mpares them.  The code uses parameters, returns, and Sc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.util.*;  // so that I can use Sc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BMI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This program reads in data for two people and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computes their body mass index (BMI)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finish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we round the BMI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258C-F365-44A9-93F3-9ECBB8E907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76A4-BBE9-4691-91C1-AE169402F2BC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al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 for body mass index (BMI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roduces output lik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utes their body mass index (BMI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0.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94.2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2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30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1 BMI = 27.868928571428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2 BMI = 23.48582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4.38310457142857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888840" y="1884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3" name=""/>
          <p:cNvGraphicFramePr/>
          <p:nvPr/>
        </p:nvGraphicFramePr>
        <p:xfrm>
          <a:off x="5867280" y="1295280"/>
          <a:ext cx="3054600" cy="1505160"/>
        </p:xfrm>
        <a:graphic>
          <a:graphicData uri="http://schemas.openxmlformats.org/drawingml/2006/table">
            <a:tbl>
              <a:tblPr/>
              <a:tblGrid>
                <a:gridCol w="1420920"/>
                <a:gridCol w="163368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ight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low 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d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5 - 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0 - 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.0 and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computes two people's body mass index (BMI) an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ares them.  The code uses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Scanner for input, and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parameters/return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roductio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1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2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port overall result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1, bmi1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2, bmi2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Difference = " + Math.abs(bmi1 - bmi2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s a welcome message explaining the pr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introductio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is program reads data for two people and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computes their body mass index (BMI).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formation for one person, computes their BMI, and returns it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person(Scanner consol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bodyMass = bmi(height, w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bodyMas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Computes/returns a person's BMI based on their height and weigh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bmi(double height, double weight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(weight * 703 / height / h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Outputs information about a person's BMI and weight statu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report(int number, double bmi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Person " + number + " BMI = " + bmi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anner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any methods need to read input, decl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ass it to the other methods as a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readSum3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s for 3 numbers and returns their s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eadSum3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canner 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um1 + num2 + num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can be combined us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gic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Truth tables" for each, used with logical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03400" y="1905120"/>
          <a:ext cx="6897600" cy="1460520"/>
        </p:xfrm>
        <a:graphic>
          <a:graphicData uri="http://schemas.openxmlformats.org/drawingml/2006/table">
            <a:tbl>
              <a:tblPr/>
              <a:tblGrid>
                <a:gridCol w="1333440"/>
                <a:gridCol w="1652400"/>
                <a:gridCol w="2914920"/>
                <a:gridCol w="99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104840" y="4422600"/>
          <a:ext cx="3721320" cy="182556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226200" y="4422600"/>
          <a:ext cx="1774800" cy="109548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aluating logic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have lower precedence than ma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* 7 &gt;= 3 + 5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7 -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gt;= 3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5    &g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+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5    &gt;= 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cannot be "chained" as in alge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true  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ssume th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rro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, combine multiple test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  &amp;&amp;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result of each of the following expres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1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z = 2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&lt; x &amp;&amp; y &lt;=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% 2 == y % 2 || x % 2 == z %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lt;= y + z &amp;&amp; x &gt;= y +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!(x &lt; y &amp;&amp; x &lt; z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 + y) % 2 == 0 || !((z - y)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swer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program that prompts for information about a person and uses it to decide whether to date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acto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tracting common/redundant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duce or eliminate redundancy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6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=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19720" y="2895480"/>
            <a:ext cx="4647600" cy="3276720"/>
            <a:chOff x="4419720" y="2895480"/>
            <a:chExt cx="4647600" cy="3276720"/>
          </a:xfrm>
        </p:grpSpPr>
        <p:sp>
          <p:nvSpPr>
            <p:cNvPr id="132" name=""/>
            <p:cNvSpPr/>
            <p:nvPr/>
          </p:nvSpPr>
          <p:spPr>
            <a:xfrm>
              <a:off x="5790960" y="3657600"/>
              <a:ext cx="3276360" cy="173988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a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 = 3 * a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 (a == 2)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 = y + 10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 = b + x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419720" y="2895480"/>
              <a:ext cx="1301040" cy="3276720"/>
              <a:chOff x="4419720" y="2895480"/>
              <a:chExt cx="1301040" cy="3276720"/>
            </a:xfrm>
          </p:grpSpPr>
          <p:sp>
            <p:nvSpPr>
              <p:cNvPr id="134" name=""/>
              <p:cNvSpPr/>
              <p:nvPr/>
            </p:nvSpPr>
            <p:spPr>
              <a:xfrm>
                <a:off x="5033880" y="4535640"/>
                <a:ext cx="68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9720" y="2895480"/>
                <a:ext cx="609480" cy="3276720"/>
              </a:xfrm>
              <a:custGeom>
                <a:avLst/>
                <a:gdLst>
                  <a:gd name="textAreaLeft" fmla="*/ 0 w 609480"/>
                  <a:gd name="textAreaRight" fmla="*/ 219960 w 609480"/>
                  <a:gd name="textAreaTop" fmla="*/ 85320 h 3276720"/>
                  <a:gd name="textAreaBottom" fmla="*/ 3191400 h 32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the larger of the two given integ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an return different value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ever path the code enters, it will return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a value causes a method to immediately ex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aths through the code must reac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l paths must 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not all paths return a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also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b &gt;=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think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/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might skip all paths, even though mathematically it must choose one or the 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a block of statements only if a test is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ystem.out.println("Application accepted."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629400" y="2019240"/>
            <a:ext cx="223992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adr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air of real number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the quadrant for that poi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adrant(-4.2, 17.3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point falls directly on either axis,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510080" y="261792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71484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98080" y="352440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720" y="3519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2680" y="2236680"/>
            <a:ext cx="9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4440" y="47656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36440" y="28670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1280" y="28814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1280" y="410040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36440" y="408636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int quadrant(double x, double y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x &g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g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4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at least one coordinate equals 0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umulative algorithm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many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find the sum of all integers from 1-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may require a lot of ty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1 + 2 + 3 + 4 + ... 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 want the sum from 1 - 1,000,000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the sum up to any maximu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neralize the abov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mulative 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that keeps a sum in progress and is updated repeatedly until summing is fin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above code is an attempt at a cumulativ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mulative sum variables must be declar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ut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loops that update them, so that they will still exist after the lo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produ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umulative idea can be used with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roduct =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2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 = product *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 ^ 20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make the base and exponent adjustab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umul. su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do a cumulative sum of user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= sum + console.next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from Ch.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mpt for how many people, and each person's dinner c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static methods to structure the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0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total: $75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x: $6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p: $11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tal: $92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enhances our Receipt program using a cumulative s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eipt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subtotal = meals(consol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(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mpts for number of people and returns total meal subtota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meals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many people ate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eopl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subtotal = 0.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umulative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people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erson #" + i +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: How much did your dinner cost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ersonCo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total = subtotal + personCos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dd to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btota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answer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ubtotal: $" + 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x: $" + tax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ip: $" + tip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otal: $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one block if a test is true, another if 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Welcome to Mars University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denied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638680" y="2003400"/>
            <a:ext cx="3254400" cy="21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factors of a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(2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3, 4, 6, 8, 12, and 24 are factors of 2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unt++;  </a:t>
            </a: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ext Process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primitive type representing single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tored internally as an arra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Ali G.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 have variables, parameters, return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rounded with apostrophes: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4'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letter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'P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);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 + " Diddy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Did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191120" y="2562120"/>
          <a:ext cx="4722840" cy="942840"/>
        </p:xfrm>
        <a:graphic>
          <a:graphicData uri="http://schemas.openxmlformats.org/drawingml/2006/table">
            <a:tbl>
              <a:tblPr/>
              <a:tblGrid>
                <a:gridCol w="874440"/>
                <a:gridCol w="641520"/>
                <a:gridCol w="641160"/>
                <a:gridCol w="641520"/>
                <a:gridCol w="641520"/>
                <a:gridCol w="641160"/>
                <a:gridCol w="641520"/>
              </a:tblGrid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l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 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G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.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A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accessed us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ex parameter and return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that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food = "cooki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.charAt(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'c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irstLetter + " is for " + foo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 to print or examine each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major = "CS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major.length(); i++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jor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);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omp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 last = word.charAt(word.length() - 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st == 's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 + " is plural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rints the alphab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char c = 'a'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 &lt;= 'z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c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c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mapped to an integer value intern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ed 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CII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6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3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*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uses automatic conversion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10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07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'A'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nver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equival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ype-cas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char) ('a' + 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c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964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hey are differ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object; it contain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"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primitive; you can't call methods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.toUpperCase();          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.charAt(0).toUpperCase();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matting text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9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at stri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format string can contai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laceholder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paramete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laceholders are used instead of + concate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0">
              <a:spcBef>
                <a:spcPts val="499"/>
              </a:spcBef>
              <a:buNone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-1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x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nd y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\n", x,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 and y is -17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drop to the next line unless you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d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3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4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, (i * j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  2   3   4   5   6   7   8   9  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  4   6   8  10  12  14  16  18  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  6   9  12  15  18  21  24  27  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preci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rounded t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s wi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de (left-align)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3.25376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your GPA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.1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more precisel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8.3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r GPA is 3.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re precisely:    3.25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657600" y="5186520"/>
            <a:ext cx="1218960" cy="682560"/>
            <a:chOff x="3657600" y="5186520"/>
            <a:chExt cx="1218960" cy="682560"/>
          </a:xfrm>
        </p:grpSpPr>
        <p:sp>
          <p:nvSpPr>
            <p:cNvPr id="192" name=""/>
            <p:cNvSpPr/>
            <p:nvPr/>
          </p:nvSpPr>
          <p:spPr>
            <a:xfrm>
              <a:off x="3817440" y="550080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4114800" y="4729320"/>
              <a:ext cx="304560" cy="12189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205160" y="4294080"/>
            <a:ext cx="876960" cy="582480"/>
            <a:chOff x="4205160" y="4294080"/>
            <a:chExt cx="876960" cy="582480"/>
          </a:xfrm>
        </p:grpSpPr>
        <p:sp>
          <p:nvSpPr>
            <p:cNvPr id="195" name=""/>
            <p:cNvSpPr/>
            <p:nvPr/>
          </p:nvSpPr>
          <p:spPr>
            <a:xfrm rot="5400000">
              <a:off x="4533840" y="4533480"/>
              <a:ext cx="228600" cy="457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05160" y="429408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ional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statements an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loops both use logical test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s, seen in Ch. 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lation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19320" y="3921120"/>
          <a:ext cx="6735600" cy="2556000"/>
        </p:xfrm>
        <a:graphic>
          <a:graphicData uri="http://schemas.openxmlformats.org/drawingml/2006/table">
            <a:tbl>
              <a:tblPr/>
              <a:tblGrid>
                <a:gridCol w="1333440"/>
                <a:gridCol w="2948040"/>
                <a:gridCol w="1549440"/>
                <a:gridCol w="90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better format it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play results in the format below,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2 digits 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5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total:  $7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x:       $5.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p:       $10.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:     $86.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Subtotal: $" +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ax: $" +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ip: $" +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otal: $" +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Subtotal: $%.2f\n",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ax:      $%.2f\n",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ip:      $%.2f\n",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otal:    $%.2f\n",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ail on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name == "Barney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will compile, but it will not print the s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objects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feren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, so it often giv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ven when tw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have the same let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are compared using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cally this is a method that return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ype used in logical tes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8160" y="121932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470720" y="1969920"/>
            <a:ext cx="156384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suse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percentage did you earn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cent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9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A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8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B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7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C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D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lt;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F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hooses between outcomes using many t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x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Posi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x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Nega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Zero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950080" y="1969920"/>
            <a:ext cx="311760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/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xactly one path must be tak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code might not execute any pa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place == 1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Gold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2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Silver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3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Bronze medal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2013120"/>
            <a:ext cx="32763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295280"/>
          <a:ext cx="9144000" cy="5124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46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ctly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808080"/>
                      </a:solidFill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or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4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 1, or many paths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dependent tests;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3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1) if/if/if   (2) nested if/else   (3) nested if/else/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user is lower, middle, or upper-class based on inco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you made the dean's list (GPA ≥ 3.8) or honor roll (3.5-3.8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number is divisible by 2, 3, and/or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if /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ing a grade of A, B, C, D, or F based on a percent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 if / else if / 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20:14Z</dcterms:modified>
  <cp:revision>121</cp:revision>
  <dc:subject/>
  <dc:title>CSE 142 Python Slides</dc:title>
</cp:coreProperties>
</file>