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9C58-C53F-4FCA-8AEF-69EF572FB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E0AD-3FA6-44D5-97AD-1EB243754236}"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E92E-191E-4D0E-9AAF-8BBE7D611F99}"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28:10Z</dcterms:modified>
  <cp:revision>123</cp:revision>
  <dc:subject/>
  <dc:title>CSE 142 Python Slides</dc:title>
</cp:coreProperties>
</file>