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D983-744D-4EA0-BA91-3A256A8EA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even open the code for Math.java in the Java src.zip install file in the JDK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9CCE-A31C-423B-BECC-12E95309454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(desired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5, -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rigin, (0,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4673520"/>
          <a:ext cx="8418240" cy="2032200"/>
        </p:xfrm>
        <a:graphic>
          <a:graphicData uri="http://schemas.openxmlformats.org/drawingml/2006/table">
            <a:tbl>
              <a:tblPr/>
              <a:tblGrid>
                <a:gridCol w="2581200"/>
                <a:gridCol w="5837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Location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s the point's x and y to the give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l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justs the point's x and y by the given am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far away the point is from poin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raw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plays the point on a drawing 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33520" y="2666880"/>
          <a:ext cx="4511520" cy="1219320"/>
        </p:xfrm>
        <a:graphic>
          <a:graphicData uri="http://schemas.openxmlformats.org/drawingml/2006/table">
            <a:tbl>
              <a:tblPr/>
              <a:tblGrid>
                <a:gridCol w="1588680"/>
                <a:gridCol w="2922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el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x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y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as bluepr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(blueprint) will describe how to creat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will contain its own data and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295280"/>
            <a:ext cx="3505320" cy="17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Poi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,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5640" y="3124080"/>
            <a:ext cx="4191480" cy="519120"/>
            <a:chOff x="2285640" y="3124080"/>
            <a:chExt cx="4191480" cy="519120"/>
          </a:xfrm>
        </p:grpSpPr>
        <p:sp>
          <p:nvSpPr>
            <p:cNvPr id="141" name=""/>
            <p:cNvSpPr/>
            <p:nvPr/>
          </p:nvSpPr>
          <p:spPr>
            <a:xfrm flipH="1">
              <a:off x="2285640" y="3124080"/>
              <a:ext cx="20574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12408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3124080"/>
              <a:ext cx="198144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320" y="3706920"/>
            <a:ext cx="28954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5,   y =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06920"/>
            <a:ext cx="289548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-245,   y =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706920"/>
            <a:ext cx="2895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8,   y =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state: 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 this code into a fi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ove code creates a new typ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two pieces of dat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do not contain any behavior (yet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 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ach Student object has 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gpa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ame and gpa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lasses can access/modify an object'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lass and its cli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, by itself, a runnabl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can be used by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77960"/>
            <a:ext cx="3809880" cy="3322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Main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Ma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x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y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x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400480"/>
            <a:ext cx="3276360" cy="13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 of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86400" y="42670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4120" y="518004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486400" y="525636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419720" y="2743200"/>
            <a:ext cx="106668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58128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572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Mai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0,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6,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389400" y="35812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371760" y="48769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838080" y="3962520"/>
            <a:ext cx="2286000" cy="444240"/>
            <a:chOff x="838080" y="3962520"/>
            <a:chExt cx="2286000" cy="444240"/>
          </a:xfrm>
        </p:grpSpPr>
        <p:sp>
          <p:nvSpPr>
            <p:cNvPr id="173" name=""/>
            <p:cNvSpPr/>
            <p:nvPr/>
          </p:nvSpPr>
          <p:spPr>
            <a:xfrm>
              <a:off x="838080" y="3962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41781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6640" y="3985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5194440"/>
            <a:ext cx="2514600" cy="444240"/>
            <a:chOff x="609480" y="5194440"/>
            <a:chExt cx="2514600" cy="444240"/>
          </a:xfrm>
        </p:grpSpPr>
        <p:sp>
          <p:nvSpPr>
            <p:cNvPr id="177" name=""/>
            <p:cNvSpPr/>
            <p:nvPr/>
          </p:nvSpPr>
          <p:spPr>
            <a:xfrm>
              <a:off x="609480" y="51944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1960" y="54100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6280" y="52178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words[2] == null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ll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ogramming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file of cities' (x, y) coordinat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begins with the number of c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7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4 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1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0 9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o draw the cities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drop a "bomb" that turns all cities red that are within a given radi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x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y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radiu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boo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 with the dot notation,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causes an exceptio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76920" y="4390920"/>
          <a:ext cx="4097160" cy="79056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oking before you l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eck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calling an object'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"hell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2] = "goodbye"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words[1], [3], [4] are nu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words[i]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i] = words[i].toUpperCas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13120" y="5029200"/>
          <a:ext cx="5614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250640"/>
                <a:gridCol w="644760"/>
                <a:gridCol w="1555560"/>
                <a:gridCol w="644760"/>
                <a:gridCol w="6444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HELL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GOODBY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57200" y="5346720"/>
            <a:ext cx="2286000" cy="444600"/>
            <a:chOff x="457200" y="5346720"/>
            <a:chExt cx="2286000" cy="444600"/>
          </a:xfrm>
        </p:grpSpPr>
        <p:sp>
          <p:nvSpPr>
            <p:cNvPr id="189" name=""/>
            <p:cNvSpPr/>
            <p:nvPr/>
          </p:nvSpPr>
          <p:spPr>
            <a:xfrm>
              <a:off x="457200" y="53467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440" y="556272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5760" y="53704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wo-phase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initialize the array itself (each element is initiall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initialize each element of the array to be a new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[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ords[i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ord" + i;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362320" y="4038480"/>
          <a:ext cx="6487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403280"/>
                <a:gridCol w="1403280"/>
                <a:gridCol w="1403280"/>
                <a:gridCol w="1403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0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1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2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3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0" y="4356000"/>
            <a:ext cx="2286000" cy="444600"/>
            <a:chOff x="0" y="4356000"/>
            <a:chExt cx="2286000" cy="444600"/>
          </a:xfrm>
        </p:grpSpPr>
        <p:sp>
          <p:nvSpPr>
            <p:cNvPr id="196" name=""/>
            <p:cNvSpPr/>
            <p:nvPr/>
          </p:nvSpPr>
          <p:spPr>
            <a:xfrm>
              <a:off x="0" y="435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4240" y="457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8560" y="437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isplays a set of cities and simulates dropping a "bomb" on the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omb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ingPanel panel = new DrawingPanel(200, 2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readCities(input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rop the "bomb"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 bomb = new Po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x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y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radius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radius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om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, radius, cities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put file of cities and returns them as array of Point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Point[] readCities(Scanner input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numCities = input.nextInt()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irst line = # of cit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 = new Point[numCities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 = new Po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 city x/y from fil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citie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imulates dropping a bomb at the given location on the given citie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boom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 bomb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int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2 * radius, 2 * radiu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x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x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y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distance = Math.sqrt(dx * dx + dy * dy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distance &lt;= radiu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Kaboom!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behavior: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lient program wants to draw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cities[i].x, cities[i].y, 3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(" + cities[i].x + ", " + cities[i].y + ")"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ties[i].x, cities[i].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them in other places, the code must be rep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remove this redundancy using a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liminating redundancy,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liminate the redundancy with a static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Draws the given point on the DrawingPanel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draw(Point p, Graphics g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fillOval(p.x, p.y, 3, 3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drawString("(" + p.x + ", " + p.y + ")", p.x, p.y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uld call the metho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cities[i], 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missing a major benefit of objects: code re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gram that draw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ould ne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tax doesn't match how we're used to using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draw(cities[i], g);    // static (b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of classes is to combine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havior is closely rel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belong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cities[i].draw(g);     // inside object (bet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anc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Exists inside each object of a class and gives behavior to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me syntax as static methods, but with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ityCount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x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y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cityCount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oords[i] = input.nextInt(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ad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oords[i]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llel arr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+ arrays with related data at same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ed poor sty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Draws this Point object with the given p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no longer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method know which point to dra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ill the method access that point's x/y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has its own copy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, which operates on that object's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x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x = 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y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210200" y="307332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1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w/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362480" y="313704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362480" y="49402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210200" y="480060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2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085840" y="5181480"/>
            <a:ext cx="1981440" cy="444600"/>
            <a:chOff x="2085840" y="5181480"/>
            <a:chExt cx="1981440" cy="444600"/>
          </a:xfrm>
        </p:grpSpPr>
        <p:sp>
          <p:nvSpPr>
            <p:cNvPr id="222" name=""/>
            <p:cNvSpPr/>
            <p:nvPr/>
          </p:nvSpPr>
          <p:spPr>
            <a:xfrm>
              <a:off x="2085840" y="518148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3381480" y="5397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5640" y="52164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15080" y="1886040"/>
            <a:ext cx="1389960" cy="1066320"/>
            <a:chOff x="4915080" y="1886040"/>
            <a:chExt cx="1389960" cy="1066320"/>
          </a:xfrm>
        </p:grpSpPr>
        <p:sp>
          <p:nvSpPr>
            <p:cNvPr id="226" name=""/>
            <p:cNvSpPr/>
            <p:nvPr/>
          </p:nvSpPr>
          <p:spPr>
            <a:xfrm>
              <a:off x="4915080" y="18860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H="1">
              <a:off x="6111720" y="2288880"/>
              <a:ext cx="432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24520" y="192060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mplicit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on which an instance method is call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stance method can refer to that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ay that it executes i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particular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fer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object it was called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,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draws that point at its curr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inds of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lets clients examine object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has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t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modifies an object'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to th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values pa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by a 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tilizes setLo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ompute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rmu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origin,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48120" y="2365200"/>
                <a:ext cx="2819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x = x - other.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y = y -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dx * dx + dy *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ses di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rigin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distance(orig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default, Java doesn't know how to print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x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y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Point@9e8c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, but cumbersome;          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(" + p.x + ", " + p.y + ")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serv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 in this problem is a set of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ould be better stored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store a city's x/y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ould compare distances betwe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ee whether the bomb hit a given c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know how to draw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program would be shorter and clean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above code is really calling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p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: class's n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's memory address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se 1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tring representing this obje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name, return, and parameters must match exa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initialization: construc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iz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it takes 3 lines 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itialize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rather specify the fields' initial values at the sta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re able to this with most types of objects in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itializes the state of new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s when the client use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return type is specifie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mplicitly "returns" the new object being cre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class has no constructor, Java gives i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efault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no parameters that sets all fields to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a constructor ca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the following call is ma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787480" y="2824200"/>
          <a:ext cx="2945160" cy="54720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263" name="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,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have multiple constru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ne must accept a unique set of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ructor with no parameters that initializes the point to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nstructor bu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Re-declaring fields as local variables  ("shadowing"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declares local variables with the same name as the fields, rather than storing values into the fields.  The fields remain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Accidentally giving the constructor a return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ctually not a constructor, but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ent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that use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lien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2514600"/>
            <a:ext cx="4114800" cy="207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Bomb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Bomb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400480"/>
            <a:ext cx="3581280" cy="108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DrawingPanel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DrawingPan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81400" y="2685960"/>
            <a:ext cx="1067040" cy="1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733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31432" b="0"/>
          <a:stretch/>
        </p:blipFill>
        <p:spPr>
          <a:xfrm>
            <a:off x="5172120" y="4381560"/>
            <a:ext cx="365760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Hiding implementation details from client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ion forc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279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vate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 won't compile if it accesses private fiel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private st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will look more like th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nefits of 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an't fraudulently increa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rewritten in pola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es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with the sam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non-negative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a month from 1-12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Refers to the implicit parameter inside you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(a variable that stores the object on which a method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ll anoth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riable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rmally illegal, except when one variable is a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most of the clas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method's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data fie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anoth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redundancy between constru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a constructor (not a method) can call another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2971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2971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template for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is a template for crea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atic methods/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-class sys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large software systems consist of many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main class runs and calls methods of the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re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lits up the program logic into manageable chun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57400" y="3962520"/>
            <a:ext cx="5029200" cy="2365200"/>
            <a:chOff x="2057400" y="3962520"/>
            <a:chExt cx="5029200" cy="2365200"/>
          </a:xfrm>
        </p:grpSpPr>
        <p:sp>
          <p:nvSpPr>
            <p:cNvPr id="304" name=""/>
            <p:cNvSpPr/>
            <p:nvPr/>
          </p:nvSpPr>
          <p:spPr>
            <a:xfrm>
              <a:off x="3448440" y="3962520"/>
              <a:ext cx="2032920" cy="110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Main Class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urier New"/>
                  <a:ea typeface="Times New Roman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5368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180600" y="5105160"/>
              <a:ext cx="37440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503160" y="5103360"/>
              <a:ext cx="2671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696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32044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nums[i]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prints all prime numbers up to a maximu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i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s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reusable piece of software, stored as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module class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class is a module that contains useful metho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lated to factors and prime numb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actor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dule is a partial program, not a complet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hav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You don't run it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ules are meant to be utilized by oth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sOf24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s.countFactors(24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 modu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nums[i]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all prime numbers up to a given maxim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i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ules in Java libra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Java's built in Math class is a mo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th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final double PI = 3.14159265358979323846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abs(int 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double toDegrees(double radian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adians * 180 / P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art of a class, rather than part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 classes can have static method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 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copied into each object; shared by all objects of that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9480" y="2666880"/>
            <a:ext cx="7925040" cy="3836160"/>
            <a:chOff x="609480" y="2666880"/>
            <a:chExt cx="7925040" cy="3836160"/>
          </a:xfrm>
        </p:grpSpPr>
        <p:sp>
          <p:nvSpPr>
            <p:cNvPr id="326" name=""/>
            <p:cNvSpPr/>
            <p:nvPr/>
          </p:nvSpPr>
          <p:spPr>
            <a:xfrm>
              <a:off x="2622600" y="2666880"/>
              <a:ext cx="4235400" cy="160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nt staticField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ring staticFiel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C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590920" y="4290840"/>
              <a:ext cx="4190400" cy="519120"/>
              <a:chOff x="2590920" y="4290840"/>
              <a:chExt cx="4190400" cy="51912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590920" y="4290840"/>
                <a:ext cx="205704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4290840"/>
                <a:ext cx="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240" y="4290840"/>
                <a:ext cx="198108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094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int theAnswer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the class instead of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shared" global field that all objects can access and modif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a class constant, except that its value can be chang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09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13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inside the class where the field was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other class (if the field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ly static fields are no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less they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hown previously so that each account is automatically given a unique 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the working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tGu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Count++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objectCount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syntax you've already used for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a class, not in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d by all objects of the class, not replic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not have an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fore, cannot access any particular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ake it so that clients can find out how many tot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 have ever been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lients can call this to find out # accounts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getNumAccount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bject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ount++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objectCoun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mmary of Java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is used for any of the following in a large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a main and perhaps other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uessingG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thd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dLib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usually declare any static fields (excep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fines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tGu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ares object fields, constructor(s),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eclare static fields or methods, but these are less of a fo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 be encapsulated (all fields and static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Utility code implemented as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use objects without knowing how they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understand its external behavior (buttons, scree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understand its inner details, and you don't need t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28" name="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following slides, we will impleme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as a way of learning about defining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define a type of objec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x/y data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behavior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 program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36:24Z</dcterms:modified>
  <cp:revision>124</cp:revision>
  <dc:subject/>
  <dc:title>CSE 142 Python Slides</dc:title>
</cp:coreProperties>
</file>