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612-9100-4FCD-9E9D-663989EA1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EE9-8CF6-45A3-B258-690D231C2B4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40:10Z</dcterms:modified>
  <cp:revision>126</cp:revision>
  <dc:subject/>
  <dc:title>CSE 142 Python Slides</dc:title>
</cp:coreProperties>
</file>