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E498-2617-42B2-B0EB-E75BC4450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you get rid of the int size variable above and replace it with list.size() ?  (infinite loo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"ArrayList&lt;Integer&gt;" as just all being one atomic token representing the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jGRASP/DrJava Interactions window to create a list and add some elements, get them, check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2559-B3A1-42F6-B832-3530AF919F9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java.sun.com/javase/6/docs/api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0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onstruc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must specify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generic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the s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to store lists of different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arning abou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Java API Specific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is a huge web page containing documentation about every Java class and it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nk to the API Specs is on the course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50292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[] name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&lt;String&gt;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names[0] = "Jessic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.add("Jessica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iev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 s = names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 = list.get(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ing something to each value that star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get(i)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ing whether the valu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enson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equal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contain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,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&lt;String&gt; allWord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word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.add(wor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llWord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 all plural 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llWords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allWords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word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Words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f primitive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ype you specify when crea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be an object type; it cannot be a primitiv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llegal -- int cannot be a type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we can still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primitive types by using special classe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rapp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thei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reates a list of 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app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wrapper is an object whose sole purpose is to hold a primitive valu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 construct the list, use it with primitives as norma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grades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3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2.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yGrade = grades.ge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590920" y="1295280"/>
          <a:ext cx="3997080" cy="1976400"/>
        </p:xfrm>
        <a:graphic>
          <a:graphicData uri="http://schemas.openxmlformats.org/drawingml/2006/table">
            <a:tbl>
              <a:tblPr/>
              <a:tblGrid>
                <a:gridCol w="2022480"/>
                <a:gridCol w="1974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mitiv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rapper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8874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full of number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lays all the numbers as a list, th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average of the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highest and lowest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ters out all of the even numbers (ones divisible by 2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solve this problem using an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or why no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Integer&gt; numbers = new ArrayList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numbers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put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s.add(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all elements with even values from the given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rrayList&lt;Integer&gt; lis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list.size() - 1; i &gt;= 0; i--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list.get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 are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's size()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cau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String&gt; name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ty");   names.add("Kevin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Vicki");   names.add("Larr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0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3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names.get(-1));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ames.add(9, "Aimee");            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62040" y="5410080"/>
          <a:ext cx="393840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817560"/>
                <a:gridCol w="793800"/>
                <a:gridCol w="696600"/>
                <a:gridCol w="755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v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ic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10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10, 20, 30, 40, ..., 10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0, 40, 60, 80, 10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2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2, 4, 6, 8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list.siz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42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 42 at index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2, 42, 42, 42, 42, 2, 4, 6, 8, 1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 as a parameter and plac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fter each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an array list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quick, brown, fox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tars(list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makes it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*, quick, *, brown, *, fox, *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, assuming that every other element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removes the stars (undoing what was don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ov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add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+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sorted array lists of integers as parameters and returns a new list that contains only the elements that are found in both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lis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, 9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5, 1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9, 20, 23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3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rsect(list1, list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returns the li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, 11, 17, 28, 5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allWor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tring[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wordCou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[wordCount] = wor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Count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You don't know how many words the file will ha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 to create an array of the appropriate siz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 parts of the problem are more difficult to sol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ckily, there are other ways to store data besides in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storing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can have an array, list, or other collection as a fie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Cour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double[] grad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ArrayList&lt;String&gt; studentNam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ours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des = new double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Names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each object stores a collection of data insid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a test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a = "alic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b = "bob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a.compareTo(b) &lt; 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3710160"/>
          <a:ext cx="8153280" cy="2766960"/>
        </p:xfrm>
        <a:graphic>
          <a:graphicData uri="http://schemas.openxmlformats.org/drawingml/2006/table">
            <a:tbl>
              <a:tblPr/>
              <a:tblGrid>
                <a:gridCol w="3047760"/>
                <a:gridCol w="5105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i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=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=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!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!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an array or list of strings with Java's included binary search method because it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a = {"al", "bob", "cari", "dan", "mike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nde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a, "dan"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 for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s : 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al, bob, cari, dan, mike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rdering our own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binary search or mak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rbitrary types, because Java doesn't know how to order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compiles but crashes when we ru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ew TreeSet&lt;HtmlTa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xception in thread "main" java.lang.ClassCas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t java.util.TreeSet.add(TreeSet.java:23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10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Comparable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oth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to define a natural ordering function for it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to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should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before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after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is considered "equal"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If you want multiple orderings, use a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Comparator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stead (see Ch. 13.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Comparable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Comparable&lt;Point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nt compareTo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x &l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x &g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l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small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g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larg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 and same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traction tr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ubtracting related numeric values produces the right result for what you wa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Point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!= other.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x - other.x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ifferent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y - other.y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ame x; compare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de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g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g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l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l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=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=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0">
              <a:spcBef>
                <a:spcPts val="249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-16272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NOTE: This trick doesn't work for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s   (but se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Math.signum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legation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fields are comparable (such as strings), use thei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employee name, e.g. "Jim" &lt; "Susa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Employe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name.compareTo(other.getNam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is related to the ordering, use that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date, e.g. "09/19" &gt; "04/01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Dat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toString().compareTo(other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stores data;  a.k.a. "data structur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s stored are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collections maintain an ordering; some allow duplic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 operation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arch)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found in the Java class librar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ority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collections are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from HTML Validator compar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ags by their elements, alphabetically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same element, opening tags come before closing ta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&lt;b&gt;&lt;/b&gt;&lt;i&gt;&lt;b&gt;&lt;/b&gt;&lt;br/&gt;&lt;/i&gt;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new TreeSet&lt;HtmlTa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r"));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r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false)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tag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&lt;b&gt;, &lt;/b&gt;, &lt;body&gt;, &lt;/body&gt;, &lt;br/&gt;, &lt;i&gt;, &lt;/i&gt;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tmlTag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mplements Comparable&lt;HtmlTag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mpares tags by their element ("body" before "head"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reaking ties with opening tags before closing tag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&lt; 0 for less, 0 for equal, &gt; 0 for grea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ublic int compareTo(HtmlTag oth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mpare = element.compareTo(other.getElemen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mpare !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ifferent tags; use String's compareTo resu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mpar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ame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(isOpenTag == 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ctly the same kind of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e=open, I=close; I am af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I=open, he=close; I am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storing an ordered sequence of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lement is accessible by a 0-bas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h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number of elements that have been add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can be added to the front, back, or elsew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Java, a list can be represented a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3714840"/>
            <a:ext cx="69343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dea of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her than creating an array of boxes, create an object that represents a "list" of items.  (initially an empty lis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dd items to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behavior is to add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hello, ABC, goodbye, oka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ist object keeps track of the element values that have been added to it, their order, indexes, and its total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nk of an "array list" as an automatically resizing arra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nally, the list is implemented using an array and a size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(10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371600"/>
          <a:ext cx="8382240" cy="4776840"/>
        </p:xfrm>
        <a:graphic>
          <a:graphicData uri="http://schemas.openxmlformats.org/drawingml/2006/table">
            <a:tbl>
              <a:tblPr/>
              <a:tblGrid>
                <a:gridCol w="2916360"/>
                <a:gridCol w="5465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ends value at end of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rts given value just before the given index, shifting subsequent values to the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irst index where given value is found in list (-1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at given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/returns value at given index, shifting subsequent values to the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value at given index with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representation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5400" y="1407960"/>
          <a:ext cx="8975520" cy="4840560"/>
        </p:xfrm>
        <a:graphic>
          <a:graphicData uri="http://schemas.openxmlformats.org/drawingml/2006/table">
            <a:tbl>
              <a:tblPr/>
              <a:tblGrid>
                <a:gridCol w="2654280"/>
                <a:gridCol w="6321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list to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at the end of the list, or inserts them at the given inde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value is found somewhere in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this list contains every element from given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other lis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st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the contents of the list 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st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st index value is found in list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nds and removes the given value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found in the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Lis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sub-portion of the list betwee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exclus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in this list as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32:50Z</dcterms:modified>
  <cp:revision>115</cp:revision>
  <dc:subject/>
  <dc:title>CSE 142 Python Slides</dc:title>
</cp:coreProperties>
</file>