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15FB-DCCF-4187-9C88-5C7110C7D384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1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Collections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"for each" loop (7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a clean syntax for looping over the elements of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rray, or other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Double&gt; grades = new HashSet&lt;Double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double grade : grade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Student's grade: " + grad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eded because sets have no indexes; can'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ps vs. se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t is like a map from elements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et:  Is "Marty" found in the set? (true/fals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ap:  What is "Marty" 's phone numb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2438280"/>
            <a:ext cx="220968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2895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07640" y="24732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Marty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02560" y="2478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38840" y="2935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4952880"/>
            <a:ext cx="220968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541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07640" y="49878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Marty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4100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98000" y="499284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206-685-2181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ey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ll key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key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get each key's associated value by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the 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&lt;String, Integer&gt; ages = new Tree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Marty", 1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Geneva", 2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ges.keySet() returns Set&lt;Strin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Vicki", 5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String name 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keySe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Geneva -&gt;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get(age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arty -&gt; 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-&gt; " + age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Vicki -&gt; 5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collection of all value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value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easy way to get from a value to its associated key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opposite mapp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legal to have a map of sets, a list of list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want to keep track of each TA's GPA by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p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,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taGpa = new HashMap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,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Jared", 3.6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Alyssa", 4.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Steve", 2.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Stef", 3.6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Rob", 2.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Jared's GPA is "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Gpa.get("Jared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3.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doesn't let us easily ask which TAs got a given GP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ould we structure a map for tha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ersing a m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reverse the mapping to be from GPAs to na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, 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taGpa = new HashMap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, 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3.6, "Jared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4.0, "Alyssa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2.9, "Stev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3.6, "Stef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2.9, "Rob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ho got a 3.6? "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??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this solu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re than one TA can have the same GP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ap will store only the last mapping we ad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per map reversa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ly each GPA maps to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llection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peo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&lt;Double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et&lt;Strin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taGpa =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 HashMap&lt;Double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et&lt;Strin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3.6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.add("Jared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4.0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4.0).add("Alyssa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2.9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2.9).add("Stev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.add("Stef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2.9).add("Rob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ho got a 3.6? "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Jared, Stef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be careful to initialize the set for a given GPA before add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word count program to print every word that appeared in the book at least 1000 times, in sorted order from least to most occurren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list of TA names and quarters' experience, then prints the quarters in increasing order of how many TAs have that much experience, along with their na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Allison 5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1 qtr: [Brian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Alyssa 8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2 qtr: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Brian 1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5 qtr: [Allison, Kasey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Kasey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5486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terato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: 11.1;  15.3;  16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ining sets and ma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s of Jav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can't be accessed by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use a "foreach" loop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Integer&gt; scores = new HashSe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int score : score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core is " + scor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 foreach is read-only; cannot modify set while loop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score : score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score &lt; 6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hrows a ConcurrentModification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cores.remove(scor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terators (11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allows a client to traverse the elements of any col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s a position, and lets you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ance to the nex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ove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71480" y="4067280"/>
          <a:ext cx="4557600" cy="1185840"/>
        </p:xfrm>
        <a:graphic>
          <a:graphicData uri="http://schemas.openxmlformats.org/drawingml/2006/table">
            <a:tbl>
              <a:tblPr/>
              <a:tblGrid>
                <a:gridCol w="782640"/>
                <a:gridCol w="366840"/>
                <a:gridCol w="368280"/>
                <a:gridCol w="368280"/>
                <a:gridCol w="366480"/>
                <a:gridCol w="370080"/>
                <a:gridCol w="460440"/>
                <a:gridCol w="368280"/>
                <a:gridCol w="369720"/>
                <a:gridCol w="368280"/>
                <a:gridCol w="368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140040" y="444816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50640" y="4905000"/>
            <a:ext cx="3240360" cy="1295280"/>
            <a:chOff x="350640" y="4905000"/>
            <a:chExt cx="3240360" cy="1295280"/>
          </a:xfrm>
        </p:grpSpPr>
        <p:sp>
          <p:nvSpPr>
            <p:cNvPr id="161" name=""/>
            <p:cNvSpPr/>
            <p:nvPr/>
          </p:nvSpPr>
          <p:spPr>
            <a:xfrm>
              <a:off x="1381320" y="5514840"/>
              <a:ext cx="22096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rrent index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2448000" y="49050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0640" y="568152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213240" y="438624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786720" y="3962520"/>
            <a:ext cx="1366560" cy="1447560"/>
            <a:chOff x="6786720" y="3962520"/>
            <a:chExt cx="1366560" cy="1447560"/>
          </a:xfrm>
        </p:grpSpPr>
        <p:sp>
          <p:nvSpPr>
            <p:cNvPr id="166" name=""/>
            <p:cNvSpPr/>
            <p:nvPr/>
          </p:nvSpPr>
          <p:spPr>
            <a:xfrm>
              <a:off x="6786720" y="3962520"/>
              <a:ext cx="1366560" cy="1447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39160" y="411444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the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13720" y="449568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to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06240" y="489096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from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09880" y="45097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we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989240" y="5210280"/>
            <a:ext cx="3697560" cy="990000"/>
            <a:chOff x="4989240" y="5210280"/>
            <a:chExt cx="3697560" cy="990000"/>
          </a:xfrm>
        </p:grpSpPr>
        <p:sp>
          <p:nvSpPr>
            <p:cNvPr id="172" name=""/>
            <p:cNvSpPr/>
            <p:nvPr/>
          </p:nvSpPr>
          <p:spPr>
            <a:xfrm>
              <a:off x="6019920" y="5514840"/>
              <a:ext cx="26668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from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ex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the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7315200" y="52102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89240" y="568152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collections framewor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collection h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terator(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that returns an iterator over its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set = new HashSe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terator&lt;String&gt; itr = set.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23840" y="1371600"/>
          <a:ext cx="8915400" cy="1908000"/>
        </p:xfrm>
        <a:graphic>
          <a:graphicData uri="http://schemas.openxmlformats.org/drawingml/2006/table">
            <a:tbl>
              <a:tblPr/>
              <a:tblGrid>
                <a:gridCol w="1555560"/>
                <a:gridCol w="735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s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more elements to exa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ext element from the collection (throw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SuchElement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none left to exam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the last value returned by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(throw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llegalState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you haven't calle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ye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Integer&gt; scores = new TreeSet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9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38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Ki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43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a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7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erator&lt;Integer&gt; itr = scores.iterato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has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core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core is " + scor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iminate any failing gr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core &lt; 6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remov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cores);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// [72, 87, 94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&lt;String, Integer&gt; scores = new Tree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Kim", 38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Lisa", 9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Roy", 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Marty", 4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Marisa", 7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erator&lt;String&gt; itr = scores.keySet().iterato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has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core = scores.get(nam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 + " got " + scor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iminate any failing stud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core &lt; 6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remov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name and sc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scores);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// {Lisa=94, Marisa=72, Roy=87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Book Search program from last lecture to eliminate any words that are plural or all-uppercase from the col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TA quarters experience program so that it eliminates any TAs with 3 quarters or fewer of experie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o count the occurrences of each word in a large text file (e.g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by D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the King James Bi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 the user to type a word and report how many times that word appeared in the boo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ort all words that appeared in the book at least 500 times, in alphabetical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ill we store the data to solve this probl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Map AD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Holds a set of uniqu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collec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each key is associated with one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.k.a. "dictionary", "associative array", "hash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map oper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lu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: Adds a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pping from a key to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e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: Retrieves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lue mapped to the key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e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: Remov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iven key and i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pped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876920" y="2994120"/>
            <a:ext cx="4038480" cy="29494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67000" y="6186600"/>
            <a:ext cx="49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Map.get("Juliet"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Capulet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ps and tally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ap can be thought of as generalization of a tallying 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"index" (key) doesn't have to b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00"/>
              </a:spcBef>
              <a:buNone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 previous tallying examples from CSE 14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unt digit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209231090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(M)cCain, (O)bama, (I)ndepend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unt vote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MOOOOOOMMMMMOOOOOOMOMMIMOMMIMOMMIO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600440" y="2943360"/>
          <a:ext cx="40860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330120"/>
                <a:gridCol w="330120"/>
                <a:gridCol w="330120"/>
                <a:gridCol w="330480"/>
                <a:gridCol w="331560"/>
                <a:gridCol w="330120"/>
                <a:gridCol w="330480"/>
                <a:gridCol w="330120"/>
                <a:gridCol w="330120"/>
                <a:gridCol w="33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29718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095480" y="5153040"/>
          <a:ext cx="2638080" cy="790560"/>
        </p:xfrm>
        <a:graphic>
          <a:graphicData uri="http://schemas.openxmlformats.org/drawingml/2006/table">
            <a:tbl>
              <a:tblPr/>
              <a:tblGrid>
                <a:gridCol w="855000"/>
                <a:gridCol w="636480"/>
                <a:gridCol w="619200"/>
                <a:gridCol w="527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"M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"O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"I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5" name=""/>
          <p:cNvGrpSpPr/>
          <p:nvPr/>
        </p:nvGrpSpPr>
        <p:grpSpPr>
          <a:xfrm>
            <a:off x="5340960" y="5086440"/>
            <a:ext cx="3269520" cy="1697040"/>
            <a:chOff x="5340960" y="5086440"/>
            <a:chExt cx="3269520" cy="1697040"/>
          </a:xfrm>
        </p:grpSpPr>
        <p:sp>
          <p:nvSpPr>
            <p:cNvPr id="196" name=""/>
            <p:cNvSpPr/>
            <p:nvPr/>
          </p:nvSpPr>
          <p:spPr>
            <a:xfrm>
              <a:off x="5410080" y="5086440"/>
              <a:ext cx="1295280" cy="1371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28840" y="51624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M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40960" y="55436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O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871960" y="601488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I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15200" y="5086440"/>
              <a:ext cx="1295280" cy="1371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38120" y="60148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94880" y="56196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44760" y="50864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76760" y="5467320"/>
              <a:ext cx="1143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5867280" y="531504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324480" y="5847840"/>
              <a:ext cx="1676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77560" y="641340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ke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39120" y="641520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al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Java, maps are repres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implemented b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using an array called a "hash table"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tremel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1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; keys are stored in unpredictable orde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as a linked "binary tree" structur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r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log N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; keys are stored in sorted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ap requires 2 type parameters: one for keys, one for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maps from String keys to Integer value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&lt;String, Integer&gt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votes = new HashMap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&lt;String, Integer&gt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52280" y="1320840"/>
          <a:ext cx="8891640" cy="3255840"/>
        </p:xfrm>
        <a:graphic>
          <a:graphicData uri="http://schemas.openxmlformats.org/drawingml/2006/table">
            <a:tbl>
              <a:tblPr/>
              <a:tblGrid>
                <a:gridCol w="2365560"/>
                <a:gridCol w="65260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a mapping from the given key to the given value;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f the key already exists, replaces its value with the given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value mapped to the given key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ul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Key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map contains a mapping for the given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ny existing mapping for the given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key/value pairs from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key/value pairs in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Empt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map's size is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such a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{a=90, d=60, c=70}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155520" y="4816440"/>
          <a:ext cx="8888400" cy="1508040"/>
        </p:xfrm>
        <a:graphic>
          <a:graphicData uri="http://schemas.openxmlformats.org/drawingml/2006/table">
            <a:tbl>
              <a:tblPr/>
              <a:tblGrid>
                <a:gridCol w="2362320"/>
                <a:gridCol w="6526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keySe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et of all keys in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alues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collection of all values in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ds all key/value pairs from the given map to this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if given map has the same mappings as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ma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ap allows you to get from one half of a pair to the 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s one piece of information about every index (key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ter, we can supply only the key and get back the related valu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s us to ask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hat is Marty's phone numbe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5181480" y="5181480"/>
            <a:ext cx="221004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5451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04720" y="510552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("Marty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21560" y="5805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206-685-2181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26120" y="2666880"/>
            <a:ext cx="220968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3124080"/>
            <a:ext cx="4083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59480" y="24829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  key     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t("Marty", "206-685-2181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58053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counts the number of unique words in a large text file (say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by D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the King James Bi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the words in a collection and report the # of unique wo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you've created this collection, allow the user to search it to see whether various words appear in the text f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ollection is appropriate for this probl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ad file into a map of [word --&gt; number of occurrences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p&lt;String, Integer&gt; wordCount = new Hash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mobydick.txt"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containsKey(wor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en this word before; increase count by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unt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get(wor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put(word, count +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ever seen this word bef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put(word,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ord to search for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word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appears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ordCount.get(wor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 times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ey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set of all key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key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get each key's associated value by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the 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&lt;String, Integer&gt; ages = new Hash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Marty", 1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Geneva",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Vicki", 5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String name 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keySe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Geneva -&gt;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get(age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arty -&gt; 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-&gt; " + age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Vicki -&gt; 5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collection of all value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value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is no easy way to get from a value to its associated key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anguages and Gramma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nguages and gramma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ormal)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t of words or symbo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amm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description of a language that describes which sequences of symbols are allowed in that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languag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ynta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rules) but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emantic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meaning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used to generate strings from a language, or to determine whether a given string belongs to a given langu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us-Naur (BNF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ckus-Naur Form (BNF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yntax for describing language grammars in terms of transformati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u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f the for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rmi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fundamental symbol of the langu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on-termi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high-level symbol describing language syntax, which can be transformed into other non-terminal or terminal symbol(s) based on the rules of the gramm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ed by two Turing-award-winning computer scientists in 1960 to describe their new ALGOL programming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example BNF gramm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entences that could be generated from this gramm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ty slep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essica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art cri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NF grammar vers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p&gt;::=&lt;pn&gt; | &lt;dp&gt; &lt;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p&gt;::=a | t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&gt;::=ball | hamster | carrot |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entences that could be generated from this gramm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carrot cri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essica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computer slep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NF grammar version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p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p&gt;::=&lt;pn&gt; | &lt;dp&gt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dj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p&gt;::=a | t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dj&gt;::=silly | invisible | loud | roman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ball | hamster | carrot |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entences that could be generated from this gramm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invisible carrot cri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essica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computer slep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romantic ball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ammars and recu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p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p&gt;::=&lt;pn&gt; | &lt;dp&gt; &lt;adj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&lt;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p&gt;::=a | t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djp&gt;::=&lt;adj&gt;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adjp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| &lt;adj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dj&gt;::=silly | invisible | loud | roman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ball | hamster | carrot |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mmar rules can be defin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ursive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that the expansion of a symbol can contain that same symbo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must also be expressions that expand the symbol into something non-recursive, so that the recursion eventually en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ammar, final ve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p&gt; &lt;vp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p&gt;::=&lt;dp&gt; &lt;adjp&gt; &lt;n&gt;|&lt;p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p&gt;::=the|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djp&gt;::=&lt;adj&gt;|&lt;adj&gt; &lt;adjp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dj&gt;::=big|fat|green|wonderful|faulty|sublimi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dog|cat|man|university|father|mother|chi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n&gt;::=John|Jane|Sally|Spot|Fred|El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p&gt;::=&lt;tv&gt; &lt;np&gt;|&lt;i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v&gt;::=hit|honored|kissed|hel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iv&gt;::=died|collapsed|laughed|we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this grammar generate the following sentenc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ed honored the green wonderful chi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ig Jane wept the fat man f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 a random sentence using this gramm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mpirical analysi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unning a program and measuring its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currentTimeMillis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an integer representing the number of milliseconds that have passed since 12:00am, January 1, 197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result is returned as a value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hich is lik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ut with a larger numeric range (64 bits vs. 32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called twice to see how many milliseconds have elapsed between two points i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uch time does it take to sto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by Dic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ntence gen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28600" y="1295280"/>
            <a:ext cx="8686800" cy="4827240"/>
            <a:chOff x="228600" y="1295280"/>
            <a:chExt cx="8686800" cy="4827240"/>
          </a:xfrm>
        </p:grpSpPr>
        <p:sp>
          <p:nvSpPr>
            <p:cNvPr id="245" name=""/>
            <p:cNvSpPr/>
            <p:nvPr/>
          </p:nvSpPr>
          <p:spPr>
            <a:xfrm>
              <a:off x="1165320" y="1295280"/>
              <a:ext cx="74916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s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5800" y="204480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n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27280" y="204480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v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" y="279540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pn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28600" y="567396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14840" y="279432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tv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13880" y="279432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n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27280" y="5673960"/>
              <a:ext cx="131148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hono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13880" y="361908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d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42560" y="3619080"/>
              <a:ext cx="11239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03920" y="3619080"/>
              <a:ext cx="74916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n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13880" y="567396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4880" y="4287240"/>
              <a:ext cx="112428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99600" y="4287240"/>
              <a:ext cx="1017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44400" y="5673960"/>
              <a:ext cx="107100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hi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793040" y="5673960"/>
              <a:ext cx="107100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11080" y="4924440"/>
              <a:ext cx="101808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04880" y="5673960"/>
              <a:ext cx="149868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wonderfu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977400" y="1749240"/>
              <a:ext cx="561960" cy="2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67080" y="1749240"/>
              <a:ext cx="534960" cy="2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49800" y="2498760"/>
              <a:ext cx="207000" cy="30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09320" y="2498760"/>
              <a:ext cx="16740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96600" y="3247200"/>
              <a:ext cx="20880" cy="244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83200" y="3241800"/>
              <a:ext cx="9360" cy="243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23000" y="2498760"/>
              <a:ext cx="114300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3869640" y="3255480"/>
              <a:ext cx="1224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68920" y="4064400"/>
              <a:ext cx="18360" cy="160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95920" y="3255480"/>
              <a:ext cx="16786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09240" y="3255480"/>
              <a:ext cx="369216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490360" y="4080240"/>
              <a:ext cx="61416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8200" y="4080240"/>
              <a:ext cx="47988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666840" y="4737240"/>
              <a:ext cx="5040" cy="2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07520" y="5378400"/>
              <a:ext cx="119520" cy="2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5327640" y="4751640"/>
              <a:ext cx="50040" cy="89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993080" y="4080240"/>
              <a:ext cx="321480" cy="158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s (11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of unique values (no duplicates allowed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can perform the following operations efficient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, remove, search (contain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on't think of a set as having indexes; we jus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things to the set in general and don't worry about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57200" y="3962520"/>
            <a:ext cx="7848720" cy="2668320"/>
            <a:chOff x="457200" y="3962520"/>
            <a:chExt cx="7848720" cy="2668320"/>
          </a:xfrm>
        </p:grpSpPr>
        <p:sp>
          <p:nvSpPr>
            <p:cNvPr id="90" name=""/>
            <p:cNvSpPr/>
            <p:nvPr/>
          </p:nvSpPr>
          <p:spPr>
            <a:xfrm>
              <a:off x="457200" y="50292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4760" y="458640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.contains("to"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58000" y="5065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98200" y="4648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352680" y="3962520"/>
              <a:ext cx="3353040" cy="2668320"/>
              <a:chOff x="3352680" y="3962520"/>
              <a:chExt cx="3353040" cy="2668320"/>
            </a:xfrm>
          </p:grpSpPr>
          <p:sp>
            <p:nvSpPr>
              <p:cNvPr id="95" name=""/>
              <p:cNvSpPr/>
              <p:nvPr/>
            </p:nvSpPr>
            <p:spPr>
              <a:xfrm>
                <a:off x="4802040" y="626256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352680" y="3962520"/>
                <a:ext cx="3353040" cy="220968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"/>
              <p:cNvGrpSpPr/>
              <p:nvPr/>
            </p:nvGrpSpPr>
            <p:grpSpPr>
              <a:xfrm>
                <a:off x="3549960" y="4149720"/>
                <a:ext cx="3003120" cy="1857600"/>
                <a:chOff x="3549960" y="4149720"/>
                <a:chExt cx="3003120" cy="185760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4390920" y="414972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the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518440" y="426744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of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397480" y="4738680"/>
                  <a:ext cx="100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from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845240" y="449604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99"/>
                      </a:solidFill>
                      <a:latin typeface="Courier New"/>
                    </a:rPr>
                    <a:t>"to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861080" y="504360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she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686560" y="51818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you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181480" y="557712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him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343400" y="56390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why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023000" y="525780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in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902040" y="4724640"/>
                  <a:ext cx="100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down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549960" y="496728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by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702240" y="434340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if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" name=""/>
            <p:cNvSpPr/>
            <p:nvPr/>
          </p:nvSpPr>
          <p:spPr>
            <a:xfrm>
              <a:off x="554760" y="511956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.contains("be"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34120" y="51195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Java, sets are repres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implem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using a "hash table" array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r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1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all operation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are stored in unpredictable orde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using a "binary search tree"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tt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log N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all operation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are stored in sorted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LinkedHashSet</a:t>
            </a: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: </a:t>
            </a:r>
            <a:r>
              <a:rPr b="1" lang="en-US" sz="2200" spc="-1" strike="noStrike">
                <a:solidFill>
                  <a:srgbClr val="808080"/>
                </a:solidFill>
                <a:latin typeface="Tahoma"/>
              </a:rPr>
              <a:t>O(1)</a:t>
            </a: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 but stores in order of inser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&lt;String&gt; list = new ArrayList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&lt;Integer&gt; set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ew TreeSet&lt;Integer&gt;(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mp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&lt;String&gt; set2 = new HashSet&lt;String&gt;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li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onstruct an empty set, or one based on a given coll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3429000"/>
          <a:ext cx="8220240" cy="2766960"/>
        </p:xfrm>
        <a:graphic>
          <a:graphicData uri="http://schemas.openxmlformats.org/drawingml/2006/table">
            <a:tbl>
              <a:tblPr/>
              <a:tblGrid>
                <a:gridCol w="2397240"/>
                <a:gridCol w="5823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the given value to the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given value is found in this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the given value from the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of the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elements in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Empty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set's size is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such 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[3, 42, -7, 15]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 oper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4920" y="3740040"/>
          <a:ext cx="9080280" cy="2766960"/>
        </p:xfrm>
        <a:graphic>
          <a:graphicData uri="http://schemas.openxmlformats.org/drawingml/2006/table">
            <a:tbl>
              <a:tblPr/>
              <a:tblGrid>
                <a:gridCol w="2630160"/>
                <a:gridCol w="645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ec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all elements from the given collection to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is set contains every element from given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given other set contains the same el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terato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object used to examine set's cont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seen lat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in the given collection from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tain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elem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found in given collection from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Array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array of the elements in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45960" y="1308240"/>
            <a:ext cx="8493120" cy="189216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1155600" y="3181320"/>
            <a:ext cx="7074720" cy="387360"/>
            <a:chOff x="1155600" y="3181320"/>
            <a:chExt cx="7074720" cy="387360"/>
          </a:xfrm>
        </p:grpSpPr>
        <p:sp>
          <p:nvSpPr>
            <p:cNvPr id="121" name=""/>
            <p:cNvSpPr/>
            <p:nvPr/>
          </p:nvSpPr>
          <p:spPr>
            <a:xfrm>
              <a:off x="1155600" y="31813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add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55600" y="32004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retain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15160" y="32004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remove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s and orde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elements are stored in an unpredictable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String&gt; names = new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Jak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Robert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Marisa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Kasey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Kasey, Robert, Jake, Marisa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elements are stored in their "natural" sorted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String&gt; names = new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Jake, Kasey, Marisa, Robert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LinkedHashSet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 : elements stored in order of inse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Set&lt;String&gt; names = new 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LinkedHashSet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// [Jake, Robert, Marisa, Kasey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33:05Z</dcterms:modified>
  <cp:revision>227</cp:revision>
  <dc:subject/>
  <dc:title>CSE 142 Python Slides</dc:title>
</cp:coreProperties>
</file>