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2C2-3EEE-4219-9DBD-77D220B76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93B-9CC6-4BE4-9BB6-BCDA11BAB17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6:33Z</dcterms:modified>
  <cp:revision>313</cp:revision>
  <dc:subject/>
  <dc:title>CSE 142 Python Slides</dc:title>
</cp:coreProperties>
</file>