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255-9314-4DAA-98EA-BDC5FA13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045-7361-4E96-87D0-F4124FA2B6E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32Z</dcterms:modified>
  <cp:revision>265</cp:revision>
  <dc:subject/>
  <dc:title>CSE 142 Python Slides</dc:title>
</cp:coreProperties>
</file>